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765C-0901-4601-931C-F51DE600E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CF9C-9C94-4CE0-891A-E15A92B5DE4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2FF-7C9E-4515-B541-6484D888BDC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9671-0226-4FA5-BA1F-29D600D9CF8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CCB-E17D-46DB-B1E2-08050912BA3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88C-C037-44E8-A98A-6C82DE615C82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5276-4ACE-4232-9BF9-CAB5F51485C5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0932-663E-4961-9976-3532B3D0EFB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A817-7959-4690-8DBF-01FD88D55C06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6AB5-D161-44DE-A737-687A900F495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A5AA-C7AA-44C0-9627-936829A073F5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C14-7950-4401-973C-7DF00E210FD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C282-6B68-4C07-B59C-3B5F55E8979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0867-F651-4EF0-A818-457A7243FBB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461-5A16-4DDD-9269-612B572854F5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0F19-BAA9-4B6C-B170-F8C9813960F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84DD-A903-4849-BEEC-1D553FA616FB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208-8B66-49BA-95C7-9C1382BF1A31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960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224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488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79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2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ensus.gov/population/internationa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mailto:charles.bahan@mnps.org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b.org/Educators/LessonPlans/2005/PopulationBuildingaFoundation/Activities/Activity3/Activity3Pyramid.aspx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4572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find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 and Sex Statistics for your assigned country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census.gov/population/inter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get out your country shee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odified Directions Using 90yrs statistics"/>
          <p:cNvPicPr/>
          <p:nvPr/>
        </p:nvPicPr>
        <p:blipFill>
          <a:blip r:embed="rId1"/>
          <a:stretch/>
        </p:blipFill>
        <p:spPr>
          <a:xfrm>
            <a:off x="-177840" y="0"/>
            <a:ext cx="8458200" cy="9448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203040" y="681120"/>
            <a:ext cx="8229600" cy="916920"/>
          </a:xfrm>
          <a:prstGeom prst="rect">
            <a:avLst/>
          </a:prstGeom>
          <a:solidFill>
            <a:srgbClr val="bbe0e3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ote: Skip to #4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8128080" cy="5248080"/>
          </a:xfrm>
          <a:prstGeom prst="rect">
            <a:avLst/>
          </a:prstGeom>
          <a:ln w="0">
            <a:noFill/>
          </a:ln>
        </p:spPr>
      </p:pic>
      <p:sp>
        <p:nvSpPr>
          <p:cNvPr id="127" name="Line 3"/>
          <p:cNvSpPr/>
          <p:nvPr/>
        </p:nvSpPr>
        <p:spPr>
          <a:xfrm>
            <a:off x="5757840" y="2370240"/>
            <a:ext cx="490680" cy="9824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56240" y="2370240"/>
            <a:ext cx="1523880" cy="17780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201760" y="6434280"/>
            <a:ext cx="1608120" cy="1695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5880" y="3295080"/>
            <a:ext cx="3522960" cy="243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ype in the statistics from the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nsus Bureau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 Males and Fema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619440" y="6273360"/>
            <a:ext cx="3061080" cy="97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ype in th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tal popul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727280" y="380880"/>
            <a:ext cx="6705360" cy="1139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pen up a Microsoft Excel Workbook 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fill in the following…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002280" y="1712520"/>
            <a:ext cx="2246400" cy="30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amaic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92200" y="423720"/>
            <a:ext cx="4935600" cy="4665960"/>
          </a:xfrm>
          <a:prstGeom prst="rect">
            <a:avLst/>
          </a:prstGeom>
          <a:ln w="0">
            <a:noFill/>
          </a:ln>
        </p:spPr>
      </p:pic>
      <p:sp>
        <p:nvSpPr>
          <p:cNvPr id="135" name="Line 3"/>
          <p:cNvSpPr/>
          <p:nvPr/>
        </p:nvSpPr>
        <p:spPr>
          <a:xfrm>
            <a:off x="5181480" y="66816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902200" y="263520"/>
            <a:ext cx="337824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B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0240" y="4910040"/>
            <a:ext cx="4419720" cy="238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ve the mouse to the bottom right corner of B2 and when the + appears drag the box down to B19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235240" y="1747800"/>
            <a:ext cx="0" cy="3225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842080" y="5757840"/>
            <a:ext cx="380988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***The statistics for Males will all be negative numbers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3720" y="254160"/>
            <a:ext cx="4656240" cy="4448160"/>
          </a:xfrm>
          <a:prstGeom prst="rect">
            <a:avLst/>
          </a:prstGeom>
          <a:ln w="0">
            <a:noFill/>
          </a:ln>
        </p:spPr>
      </p:pic>
      <p:sp>
        <p:nvSpPr>
          <p:cNvPr id="141" name="Line 3"/>
          <p:cNvSpPr/>
          <p:nvPr/>
        </p:nvSpPr>
        <p:spPr>
          <a:xfrm>
            <a:off x="5079960" y="4237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842080" y="254160"/>
            <a:ext cx="337824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C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100160" y="4648320"/>
            <a:ext cx="4421160" cy="238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ve the mouse to the bottom right corner of C2 and when the + appears drag the box down to C19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2676600" y="1486080"/>
            <a:ext cx="0" cy="3225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03320" y="711360"/>
            <a:ext cx="2514600" cy="3632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460840" y="3556080"/>
            <a:ext cx="1752840" cy="3657600"/>
          </a:xfrm>
          <a:prstGeom prst="rect">
            <a:avLst/>
          </a:prstGeom>
          <a:ln w="0">
            <a:noFill/>
          </a:ln>
        </p:spPr>
      </p:pic>
      <p:sp>
        <p:nvSpPr>
          <p:cNvPr id="147" name="Line 4"/>
          <p:cNvSpPr/>
          <p:nvPr/>
        </p:nvSpPr>
        <p:spPr>
          <a:xfrm flipV="1">
            <a:off x="6793920" y="3276720"/>
            <a:ext cx="355320" cy="15494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3124080" y="1244520"/>
            <a:ext cx="990720" cy="12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946680" y="952560"/>
            <a:ext cx="1726920" cy="5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igh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715080" y="1778040"/>
            <a:ext cx="2451240" cy="147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to Insert and select “Chart...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28600" y="241200"/>
            <a:ext cx="6718320" cy="7142400"/>
          </a:xfrm>
          <a:prstGeom prst="rect">
            <a:avLst/>
          </a:prstGeom>
          <a:ln w="0">
            <a:noFill/>
          </a:ln>
        </p:spPr>
      </p:pic>
      <p:sp>
        <p:nvSpPr>
          <p:cNvPr id="152" name="Line 3"/>
          <p:cNvSpPr/>
          <p:nvPr/>
        </p:nvSpPr>
        <p:spPr>
          <a:xfrm>
            <a:off x="4863960" y="965160"/>
            <a:ext cx="1397160" cy="1486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2577960" y="1968480"/>
            <a:ext cx="3721320" cy="1536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2272680" y="4521240"/>
            <a:ext cx="3873240" cy="6732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Line 6"/>
          <p:cNvSpPr/>
          <p:nvPr/>
        </p:nvSpPr>
        <p:spPr>
          <a:xfrm flipH="1" flipV="1">
            <a:off x="6222600" y="4508280"/>
            <a:ext cx="25560" cy="2323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991120" y="2197080"/>
            <a:ext cx="3949920" cy="238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stom Types” “User-defined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opulation Pyramid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ish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20680" y="330120"/>
            <a:ext cx="9704520" cy="6680160"/>
          </a:xfrm>
          <a:prstGeom prst="rect">
            <a:avLst/>
          </a:prstGeom>
          <a:ln w="0">
            <a:noFill/>
          </a:ln>
        </p:spPr>
      </p:pic>
      <p:sp>
        <p:nvSpPr>
          <p:cNvPr id="158" name="Line 3"/>
          <p:cNvSpPr/>
          <p:nvPr/>
        </p:nvSpPr>
        <p:spPr>
          <a:xfrm>
            <a:off x="6362640" y="9907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045200" y="431640"/>
            <a:ext cx="2540160" cy="19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ype in the location for the population pyramid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622760" y="837720"/>
            <a:ext cx="2244600" cy="30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amaic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352680" y="504720"/>
            <a:ext cx="6432840" cy="661032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 flipH="1" flipV="1">
            <a:off x="2349000" y="5714640"/>
            <a:ext cx="1536840" cy="12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-117360" y="5247720"/>
            <a:ext cx="3516480" cy="97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PD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lect Save as PD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17680" y="6493680"/>
            <a:ext cx="3190680" cy="9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mail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charles.bahan@mnps.or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an attachment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031840" y="4826160"/>
            <a:ext cx="203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7997760" y="685800"/>
            <a:ext cx="21621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Line 8"/>
          <p:cNvSpPr/>
          <p:nvPr/>
        </p:nvSpPr>
        <p:spPr>
          <a:xfrm flipH="1">
            <a:off x="4360680" y="5079960"/>
            <a:ext cx="20732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2285640" y="4826160"/>
            <a:ext cx="414828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6" name="Picture 1024" descr=""/>
          <p:cNvPicPr/>
          <p:nvPr/>
        </p:nvPicPr>
        <p:blipFill>
          <a:blip r:embed="rId1"/>
          <a:stretch/>
        </p:blipFill>
        <p:spPr>
          <a:xfrm>
            <a:off x="0" y="0"/>
            <a:ext cx="10032840" cy="8097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632040" y="3200400"/>
            <a:ext cx="41911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"/>
              </a:rPr>
              <a:t>Click on International Data Bas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88" name="Straight Arrow Connector 4"/>
          <p:cNvCxnSpPr/>
          <p:nvPr/>
        </p:nvCxnSpPr>
        <p:spPr>
          <a:xfrm flipH="1" flipV="1">
            <a:off x="2869560" y="2979360"/>
            <a:ext cx="991080" cy="767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89" name="Straight Arrow Connector 6"/>
          <p:cNvCxnSpPr/>
          <p:nvPr/>
        </p:nvCxnSpPr>
        <p:spPr>
          <a:xfrm flipH="1" flipV="1">
            <a:off x="1650600" y="2979000"/>
            <a:ext cx="2000880" cy="881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0" name="Straight Arrow Connector 8"/>
          <p:cNvCxnSpPr/>
          <p:nvPr/>
        </p:nvCxnSpPr>
        <p:spPr>
          <a:xfrm flipH="1" flipV="1">
            <a:off x="1497960" y="2979360"/>
            <a:ext cx="1448280" cy="1070640"/>
          </a:xfrm>
          <a:prstGeom prst="straightConnector1">
            <a:avLst/>
          </a:prstGeom>
          <a:ln w="0">
            <a:noFill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02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Line 3"/>
          <p:cNvSpPr/>
          <p:nvPr/>
        </p:nvSpPr>
        <p:spPr>
          <a:xfrm flipV="1">
            <a:off x="3942720" y="2933280"/>
            <a:ext cx="1517400" cy="3812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460840" y="2229480"/>
            <a:ext cx="3276720" cy="146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d name of assigned countr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946240" y="4630680"/>
            <a:ext cx="190044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903920" y="3966840"/>
            <a:ext cx="4038480" cy="97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d Year 200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Subm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2717640" y="4800240"/>
            <a:ext cx="2281320" cy="1981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 flipH="1" flipV="1">
            <a:off x="7105320" y="7416360"/>
            <a:ext cx="825480" cy="507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144360" y="93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Line 2"/>
          <p:cNvSpPr/>
          <p:nvPr/>
        </p:nvSpPr>
        <p:spPr>
          <a:xfrm>
            <a:off x="7104960" y="357120"/>
            <a:ext cx="144360" cy="14479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1422360" y="837360"/>
            <a:ext cx="914400" cy="9651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20600" y="1800360"/>
            <a:ext cx="2003400" cy="1295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 filling in your country data she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918040" y="1981080"/>
            <a:ext cx="2909880" cy="13464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xt click on Population Pyrami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7784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Line 4"/>
          <p:cNvSpPr/>
          <p:nvPr/>
        </p:nvSpPr>
        <p:spPr>
          <a:xfrm>
            <a:off x="3751200" y="6961320"/>
            <a:ext cx="925560" cy="226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710240" y="6685920"/>
            <a:ext cx="311292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3"/>
          <p:cNvSpPr/>
          <p:nvPr/>
        </p:nvSpPr>
        <p:spPr>
          <a:xfrm>
            <a:off x="2198520" y="-2133720"/>
            <a:ext cx="12319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806920" y="-2357640"/>
            <a:ext cx="281556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“2000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699080" y="2057400"/>
            <a:ext cx="1528560" cy="228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6908760" y="2171880"/>
            <a:ext cx="3094200" cy="415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ighlight  and copy Male Population rows D4-D20, (rt. click-copy) Now we need to put this data into our new population pyramid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see next slide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You will do the same for Female Pop rows E4-E20 as well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07960" y="3809880"/>
            <a:ext cx="25909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#2 add up the population in rows D-21 thru 24 and write the # down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peat for rows E21-E2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Line 3"/>
          <p:cNvSpPr/>
          <p:nvPr/>
        </p:nvSpPr>
        <p:spPr>
          <a:xfrm flipH="1">
            <a:off x="3098880" y="5867280"/>
            <a:ext cx="236520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Line 3"/>
          <p:cNvSpPr/>
          <p:nvPr/>
        </p:nvSpPr>
        <p:spPr>
          <a:xfrm flipH="1" flipV="1">
            <a:off x="3098520" y="5867280"/>
            <a:ext cx="2446200" cy="609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4720" y="6094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Constructing Population Pyramids in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icrosoft Excel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br>
              <a:rPr sz="44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prb.org/Educators/LessonPlans/2005/PopulationBuildingaFoundation/Activities/Activity3/Activity3Pyramid.asp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9512280" cy="786132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 flipH="1" flipV="1">
            <a:off x="5638320" y="3580920"/>
            <a:ext cx="422280" cy="9320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041480" y="5155200"/>
            <a:ext cx="878832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ownload the Pyramids (Excel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3720960" y="5181480"/>
            <a:ext cx="12319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52040" y="5719320"/>
            <a:ext cx="281556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“2000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840" y="304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4892760" y="1447920"/>
            <a:ext cx="460692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te in your Male and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male (#) in the correct rows (E2-18), (F2-18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689440" y="5353200"/>
            <a:ext cx="4276800" cy="122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the value of you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dding up the population from 85+ (see previous slide)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 E19 and F19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4470480" y="5715000"/>
            <a:ext cx="1079280" cy="4395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ahan, Charles A (MNPS)</cp:lastModifiedBy>
  <cp:lastPrinted>2011-10-05T03:38:15Z</cp:lastPrinted>
  <dcterms:modified xsi:type="dcterms:W3CDTF">2011-10-05T03:40:30Z</dcterms:modified>
  <cp:revision>93</cp:revision>
  <dc:subject/>
  <dc:title>Technology Lessons</dc:title>
</cp:coreProperties>
</file>